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8941-89C8-4776-BEA2-B163AA3E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D4CE-65C5-4A2F-B33B-C8895165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962-EDFB-4C58-A1BB-303C2263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71C0-DAE5-4E17-B72E-10F8619B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99F2-EEC0-4491-838E-74BB8E16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45F-E2F5-4F14-8F9C-2BD0E9CD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072B-D61C-4A99-9E1F-B5874538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1969-3338-46A1-8674-CDB78E65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9D5-58F3-4F81-AC06-4DDEB865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FCA-EC13-42B1-8012-316BB826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02A8-7E3E-4A8D-87E2-D71C9572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059-E2D2-46C4-A56A-6B62B136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47B7-5FBD-4982-BEEB-7E7675DFD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quence the structures of living things from the least complex to the most complex –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ell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tissues, organs, organ systems,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runner sweats to –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lect a variable to alter the environmen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e.g.,temperature, light, moisture, gravity) and observe the effects on an organism (earthworm).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e the effects of environmental condition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on ones own behavior.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bserve the response of the bod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when competing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 a running event. (In order to maintain body temperature, various systems begin cooling through such processes as sweating and cooling the blood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t the surface of the skin).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vestigate the effects of various stimuli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on plants and how they adapt their growth (e.g.,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photo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opism,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geo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opism and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thermo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opism).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scribe plant and animal respons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to seasonal changes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e.g., nocturnal, migration, hibernation, color change, fur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ength).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derstand that diseas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 an organism creates an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mbalance in internal condi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3822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2319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6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974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are and contrast plant and animal cell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2019240"/>
            <a:ext cx="6324840" cy="4311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086600" y="838080"/>
            <a:ext cx="1905120" cy="17528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ecaa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 Cell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6103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6858000" cy="4675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380880"/>
            <a:ext cx="1524240" cy="1295640"/>
          </a:xfrm>
          <a:prstGeom prst="wedgeRectCallout">
            <a:avLst>
              <a:gd name="adj1" fmla="val 45314"/>
              <a:gd name="adj2" fmla="val 84560"/>
            </a:avLst>
          </a:prstGeom>
          <a:solidFill>
            <a:srgbClr val="c0fa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t Cel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5656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lls         Tiss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05920" cy="5664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86200" y="457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661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ssue    Organ    Orga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685800"/>
            <a:ext cx="533520" cy="409680"/>
          </a:xfrm>
          <a:prstGeom prst="rightArrow">
            <a:avLst>
              <a:gd name="adj1" fmla="val 50000"/>
              <a:gd name="adj2" fmla="val 325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685800"/>
            <a:ext cx="533160" cy="409680"/>
          </a:xfrm>
          <a:prstGeom prst="rightArrow">
            <a:avLst>
              <a:gd name="adj1" fmla="val 50000"/>
              <a:gd name="adj2" fmla="val 325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62920" cy="488304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77766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cribe the functions of the digestive and or circulatory system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• Identify human body organs and characteristics a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ate their characteristics to function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74680"/>
            <a:ext cx="8610840" cy="64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of the following is an example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ene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Which of the following can reproduce both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xually and asexual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Which form of reproduction require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x 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propagation of new plants fro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tings (which skips a portion of the life cycle) with the process of producing a new plant fro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tilization of an ovum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erve and communic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life cycle of an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81433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9:29:46Z</dcterms:created>
  <dc:creator>USD376</dc:creator>
  <dc:description/>
  <dc:language>en-US</dc:language>
  <cp:lastModifiedBy>USD376</cp:lastModifiedBy>
  <dcterms:modified xsi:type="dcterms:W3CDTF">2010-04-20T09:54:10Z</dcterms:modified>
  <cp:revision>2</cp:revision>
  <dc:subject/>
  <dc:title>• Describe the functions of the digestive and or circulatory systems. • Sequence the structures of living things from the least complex to the most complex – cells, tissues, organs, organ systems, organism • Identify human body organs and characteristics and relate their characteristics to function. • Compare and contrast plant and animal cells.</dc:title>
</cp:coreProperties>
</file>